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78D942-6C87-4905-AF48-0866B28B4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377286-9606-48C6-807D-C60C51BC8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30120" y="542880"/>
            <a:ext cx="6351840" cy="4764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351000" y="5553000"/>
            <a:ext cx="63086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D7D1-16A4-40B4-9E1C-3EAC2A68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8C9C-D21D-43D0-A3CC-2A9F4854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EF30B-07D5-45EA-B764-52A15AF8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B038-D140-43C8-8EF3-FC926E46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0C5C0-5585-4913-8E27-2B1F03C550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9AED4-600D-4DAE-AD71-4125DDC9D8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B5BB9-8482-4B01-9623-18C5AC2E33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A46F0-506E-4A60-A337-8C879946CE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805AE-AE79-40E4-A047-188C1A2CD3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EF70D-6024-4287-8F7B-AA91AE397C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C9EFB-C846-47C7-8AAA-C5B6298A44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6367-03C4-45B7-A154-2BB05EE7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35E9D-219E-4D54-9326-6DC4722E89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DCE62-53F6-4148-A15F-4A6C6C6B1F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48CA4-8247-463D-B269-1C070125D5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8018C-F0B4-49D2-ACD6-1F1E8DF294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16445-2CE8-4C6C-A319-29C588A1AC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A3B59-6A5F-4788-892C-7F7352C0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6714E-3A35-4B2F-AF6A-F342265E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EFCC4-473C-466D-9844-4809112A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E34AF-ADAD-4CE4-A85E-9223B37B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7CA90-E994-40FD-B643-17F4B571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7EC1-DA88-4C90-B05A-245238DC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CFE4C-3E92-49FB-8AA6-D27E619D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B26DF-E72E-4E15-BB64-D233A334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A6187-F47B-439E-9E31-FA7118DC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ECBFA-4B1A-47D4-B737-E53FF2B8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141D8-455F-4BE6-B04C-0C3455E0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14107-E054-4313-8368-AEC54BF0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C8168-C9FD-4F93-946B-18CD870E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25CF-94B9-4C16-A1B7-1C0AC29D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2245-099C-49CA-9909-154B8A18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0ED23-4C2D-4591-BF84-1C6E5596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02EA-73AA-4412-A573-242F681E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69CD-3B7F-4C67-AF02-79A17B06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A736-7019-4F01-9D65-86F21C6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733E-DB39-451C-9637-ED809F8DE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7A68-9C7A-450F-AD39-1236DF832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FA9E-6678-4A05-83B7-DFC171E6D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0E51E-D6E3-4DF6-8B1D-399D63ED87B8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School Library Systems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Provide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leadership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hared resource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equitable acces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leveraged economic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connect students and teachers to resource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-1297080" y="-111600"/>
            <a:ext cx="3925800" cy="2596680"/>
            <a:chOff x="-1297080" y="-111600"/>
            <a:chExt cx="3925800" cy="2596680"/>
          </a:xfrm>
        </p:grpSpPr>
        <p:sp>
          <p:nvSpPr>
            <p:cNvPr id="238" name=""/>
            <p:cNvSpPr/>
            <p:nvPr/>
          </p:nvSpPr>
          <p:spPr>
            <a:xfrm flipV="1">
              <a:off x="-1297080" y="830160"/>
              <a:ext cx="2511720" cy="165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-71280" y="-111600"/>
              <a:ext cx="2700000" cy="1945080"/>
              <a:chOff x="-71280" y="-111600"/>
              <a:chExt cx="2700000" cy="1945080"/>
            </a:xfrm>
          </p:grpSpPr>
          <p:sp>
            <p:nvSpPr>
              <p:cNvPr id="240" name=""/>
              <p:cNvSpPr/>
              <p:nvPr/>
            </p:nvSpPr>
            <p:spPr>
              <a:xfrm rot="20341800">
                <a:off x="51840" y="289440"/>
                <a:ext cx="245340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0341800">
                <a:off x="182880" y="364680"/>
                <a:ext cx="21819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>
            <a:off x="2438280" y="24382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0AA1-6DA7-4BD1-A632-BFFF4A603CE6}" type="slidenum">
              <a:t>10</a:t>
            </a:fld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School Library System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Resources and Service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 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-1297080" y="-111600"/>
            <a:ext cx="3925800" cy="2596680"/>
            <a:chOff x="-1297080" y="-111600"/>
            <a:chExt cx="3925800" cy="2596680"/>
          </a:xfrm>
        </p:grpSpPr>
        <p:sp>
          <p:nvSpPr>
            <p:cNvPr id="246" name=""/>
            <p:cNvSpPr/>
            <p:nvPr/>
          </p:nvSpPr>
          <p:spPr>
            <a:xfrm flipV="1">
              <a:off x="-1297080" y="830160"/>
              <a:ext cx="2511720" cy="165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-71280" y="-111600"/>
              <a:ext cx="2700000" cy="1945080"/>
              <a:chOff x="-71280" y="-111600"/>
              <a:chExt cx="2700000" cy="1945080"/>
            </a:xfrm>
          </p:grpSpPr>
          <p:sp>
            <p:nvSpPr>
              <p:cNvPr id="248" name=""/>
              <p:cNvSpPr/>
              <p:nvPr/>
            </p:nvSpPr>
            <p:spPr>
              <a:xfrm rot="20341800">
                <a:off x="51840" y="289440"/>
                <a:ext cx="245340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0341800">
                <a:off x="182880" y="364680"/>
                <a:ext cx="21819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>
            <a:off x="2438280" y="24382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3B82-4A68-4F2F-95BB-0F994429D5F5}" type="slidenum">
              <a:t>11</a:t>
            </a:fld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Middle-Level Education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Review and revision –</a:t>
            </a:r>
            <a:br>
              <a:rPr sz="3200"/>
            </a:b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Library Media Middle Level Indicators of Achievement Checklists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-72000" y="-1332720"/>
            <a:ext cx="2711880" cy="3366000"/>
            <a:chOff x="-72000" y="-1332720"/>
            <a:chExt cx="2711880" cy="3366000"/>
          </a:xfrm>
        </p:grpSpPr>
        <p:sp>
          <p:nvSpPr>
            <p:cNvPr id="254" name=""/>
            <p:cNvSpPr/>
            <p:nvPr/>
          </p:nvSpPr>
          <p:spPr>
            <a:xfrm flipH="1">
              <a:off x="1330560" y="-1332720"/>
              <a:ext cx="467640" cy="2310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-72000" y="-111240"/>
              <a:ext cx="2711880" cy="2144520"/>
              <a:chOff x="-72000" y="-111240"/>
              <a:chExt cx="2711880" cy="2144520"/>
            </a:xfrm>
          </p:grpSpPr>
          <p:sp>
            <p:nvSpPr>
              <p:cNvPr id="256" name=""/>
              <p:cNvSpPr/>
              <p:nvPr/>
            </p:nvSpPr>
            <p:spPr>
              <a:xfrm rot="20115000">
                <a:off x="78840" y="33552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115000">
                <a:off x="208080" y="41796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2362320" y="1600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Vital to Success in </a:t>
            </a:r>
            <a:br>
              <a:rPr sz="36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High School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4B0D-D30B-4EBA-AA4B-7FA117D25A9B}" type="slidenum">
              <a:t>12</a:t>
            </a:fld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2819520"/>
            <a:ext cx="8534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16765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Data Drives Decisions</a:t>
            </a:r>
            <a:endParaRPr b="0" lang="en-US" sz="54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5760" y="-1242720"/>
            <a:ext cx="2709360" cy="3342960"/>
            <a:chOff x="-5760" y="-1242720"/>
            <a:chExt cx="2709360" cy="3342960"/>
          </a:xfrm>
        </p:grpSpPr>
        <p:sp>
          <p:nvSpPr>
            <p:cNvPr id="262" name=""/>
            <p:cNvSpPr/>
            <p:nvPr/>
          </p:nvSpPr>
          <p:spPr>
            <a:xfrm flipH="1">
              <a:off x="1395360" y="-1242720"/>
              <a:ext cx="506160" cy="23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-5760" y="-16200"/>
              <a:ext cx="2709360" cy="2116440"/>
              <a:chOff x="-5760" y="-16200"/>
              <a:chExt cx="2709360" cy="2116440"/>
            </a:xfrm>
          </p:grpSpPr>
          <p:sp>
            <p:nvSpPr>
              <p:cNvPr id="264" name=""/>
              <p:cNvSpPr/>
              <p:nvPr/>
            </p:nvSpPr>
            <p:spPr>
              <a:xfrm rot="20172600">
                <a:off x="144000" y="41652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20172600">
                <a:off x="273240" y="49896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2819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Review and Revision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chool Library sections of Basic Educational Data Surveys (BEDS)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tatewide P-16 data system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Link resources and certified specialists to student achievement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5A53-E12F-42CC-A875-424BCEBEC01B}" type="slidenum">
              <a:t>13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edia Centers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 Improve Student Achievement 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342864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Revised School Library Media Program Evaluation (SLMPE) Rubric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-158400" y="-1395000"/>
            <a:ext cx="2709360" cy="3342960"/>
            <a:chOff x="-158400" y="-1395000"/>
            <a:chExt cx="2709360" cy="3342960"/>
          </a:xfrm>
        </p:grpSpPr>
        <p:sp>
          <p:nvSpPr>
            <p:cNvPr id="270" name=""/>
            <p:cNvSpPr/>
            <p:nvPr/>
          </p:nvSpPr>
          <p:spPr>
            <a:xfrm flipH="1">
              <a:off x="1242720" y="-1395000"/>
              <a:ext cx="506160" cy="23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-158400" y="-168480"/>
              <a:ext cx="2709360" cy="2116440"/>
              <a:chOff x="-158400" y="-168480"/>
              <a:chExt cx="2709360" cy="2116440"/>
            </a:xfrm>
          </p:grpSpPr>
          <p:sp>
            <p:nvSpPr>
              <p:cNvPr id="272" name=""/>
              <p:cNvSpPr/>
              <p:nvPr/>
            </p:nvSpPr>
            <p:spPr>
              <a:xfrm rot="20172600">
                <a:off x="-8280" y="26424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0172600">
                <a:off x="120600" y="34668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F07B-F16C-4E3C-AC92-180543C35FE3}" type="slidenum">
              <a:t>14</a:t>
            </a:fld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edia Program 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Assessment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-5544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-158400" y="-1395000"/>
            <a:ext cx="2709360" cy="3342960"/>
            <a:chOff x="-158400" y="-1395000"/>
            <a:chExt cx="2709360" cy="3342960"/>
          </a:xfrm>
        </p:grpSpPr>
        <p:sp>
          <p:nvSpPr>
            <p:cNvPr id="277" name=""/>
            <p:cNvSpPr/>
            <p:nvPr/>
          </p:nvSpPr>
          <p:spPr>
            <a:xfrm flipH="1">
              <a:off x="1242720" y="-1395000"/>
              <a:ext cx="506160" cy="23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-158400" y="-168480"/>
              <a:ext cx="2709360" cy="2116440"/>
              <a:chOff x="-158400" y="-168480"/>
              <a:chExt cx="2709360" cy="2116440"/>
            </a:xfrm>
          </p:grpSpPr>
          <p:sp>
            <p:nvSpPr>
              <p:cNvPr id="279" name=""/>
              <p:cNvSpPr/>
              <p:nvPr/>
            </p:nvSpPr>
            <p:spPr>
              <a:xfrm rot="20172600">
                <a:off x="-8280" y="26424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0172600">
                <a:off x="120600" y="34668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7831-E442-4244-AAA0-365F22FEF3B9}" type="slidenum">
              <a:t>15</a:t>
            </a:fld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Student Access to Information Specialist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chool Library Media Center in every school</a:t>
            </a:r>
            <a:br>
              <a:rPr sz="3200"/>
            </a:b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chool Library Media Specialist in every Library Media Center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-77040" y="-57960"/>
            <a:ext cx="4245480" cy="1785240"/>
            <a:chOff x="-77040" y="-57960"/>
            <a:chExt cx="4245480" cy="1785240"/>
          </a:xfrm>
        </p:grpSpPr>
        <p:sp>
          <p:nvSpPr>
            <p:cNvPr id="284" name=""/>
            <p:cNvSpPr/>
            <p:nvPr/>
          </p:nvSpPr>
          <p:spPr>
            <a:xfrm flipH="1">
              <a:off x="1310760" y="515520"/>
              <a:ext cx="2857680" cy="25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-77040" y="-57960"/>
              <a:ext cx="2572560" cy="1785240"/>
              <a:chOff x="-77040" y="-57960"/>
              <a:chExt cx="2572560" cy="1785240"/>
            </a:xfrm>
          </p:grpSpPr>
          <p:sp>
            <p:nvSpPr>
              <p:cNvPr id="286" name=""/>
              <p:cNvSpPr/>
              <p:nvPr/>
            </p:nvSpPr>
            <p:spPr>
              <a:xfrm rot="20564400">
                <a:off x="39600" y="2631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20564400">
                <a:off x="164880" y="33768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F029-31EA-4A8C-B03C-632B419B2571}" type="slidenum">
              <a:t>16</a:t>
            </a:fld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dvocacy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Winning compliance </a:t>
            </a:r>
            <a:br>
              <a:rPr sz="4000"/>
            </a:b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in meeting Regulations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27960" y="315360"/>
            <a:ext cx="4198680" cy="2003040"/>
            <a:chOff x="327960" y="315360"/>
            <a:chExt cx="4198680" cy="2003040"/>
          </a:xfrm>
        </p:grpSpPr>
        <p:sp>
          <p:nvSpPr>
            <p:cNvPr id="291" name=""/>
            <p:cNvSpPr/>
            <p:nvPr/>
          </p:nvSpPr>
          <p:spPr>
            <a:xfrm flipH="1">
              <a:off x="1721520" y="639360"/>
              <a:ext cx="2805120" cy="60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27960" y="315360"/>
              <a:ext cx="2601720" cy="2003040"/>
              <a:chOff x="327960" y="315360"/>
              <a:chExt cx="2601720" cy="2003040"/>
            </a:xfrm>
          </p:grpSpPr>
          <p:sp>
            <p:nvSpPr>
              <p:cNvPr id="293" name=""/>
              <p:cNvSpPr/>
              <p:nvPr/>
            </p:nvSpPr>
            <p:spPr>
              <a:xfrm rot="20143800">
                <a:off x="459360" y="7455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0143800">
                <a:off x="584280" y="82080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C6B1-8CB5-4E57-B88F-5654121259F0}" type="slidenum">
              <a:t>17</a:t>
            </a:fld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Administrative Support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27960" y="315360"/>
            <a:ext cx="4198680" cy="2003040"/>
            <a:chOff x="327960" y="315360"/>
            <a:chExt cx="4198680" cy="2003040"/>
          </a:xfrm>
        </p:grpSpPr>
        <p:sp>
          <p:nvSpPr>
            <p:cNvPr id="298" name=""/>
            <p:cNvSpPr/>
            <p:nvPr/>
          </p:nvSpPr>
          <p:spPr>
            <a:xfrm flipH="1">
              <a:off x="1721520" y="639360"/>
              <a:ext cx="2805120" cy="60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27960" y="315360"/>
              <a:ext cx="2601720" cy="2003040"/>
              <a:chOff x="327960" y="315360"/>
              <a:chExt cx="2601720" cy="2003040"/>
            </a:xfrm>
          </p:grpSpPr>
          <p:sp>
            <p:nvSpPr>
              <p:cNvPr id="300" name=""/>
              <p:cNvSpPr/>
              <p:nvPr/>
            </p:nvSpPr>
            <p:spPr>
              <a:xfrm rot="20143800">
                <a:off x="459360" y="7455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143800">
                <a:off x="584280" y="82080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3A521-059B-40AF-A80C-2E04570B0048}" type="slidenum">
              <a:t>18</a:t>
            </a:fld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378040" y="3122640"/>
            <a:ext cx="2670120" cy="2493360"/>
            <a:chOff x="5378040" y="312264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5378040" y="312264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638680" y="4365360"/>
              <a:ext cx="2409480" cy="1250640"/>
              <a:chOff x="5638680" y="436536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638680" y="436536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8280" y="444600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754C-78BA-44D0-9A3D-1CFCFD1D13DD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Standards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Drive Curriculum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New York State </a:t>
            </a:r>
            <a:br>
              <a:rPr sz="3600"/>
            </a:b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Information Literacy Standards</a:t>
            </a:r>
            <a:br>
              <a:rPr sz="3600"/>
            </a:b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480" y="-24840"/>
            <a:ext cx="2690280" cy="2888640"/>
            <a:chOff x="6480" y="-24840"/>
            <a:chExt cx="2690280" cy="2888640"/>
          </a:xfrm>
        </p:grpSpPr>
        <p:sp>
          <p:nvSpPr>
            <p:cNvPr id="184" name=""/>
            <p:cNvSpPr/>
            <p:nvPr/>
          </p:nvSpPr>
          <p:spPr>
            <a:xfrm flipH="1" flipV="1">
              <a:off x="1324080" y="926280"/>
              <a:ext cx="696240" cy="193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480" y="-24840"/>
              <a:ext cx="2690280" cy="1991520"/>
              <a:chOff x="6480" y="-24840"/>
              <a:chExt cx="2690280" cy="1991520"/>
            </a:xfrm>
          </p:grpSpPr>
          <p:sp>
            <p:nvSpPr>
              <p:cNvPr id="186" name=""/>
              <p:cNvSpPr/>
              <p:nvPr/>
            </p:nvSpPr>
            <p:spPr>
              <a:xfrm rot="20413800">
                <a:off x="146880" y="34560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413800">
                <a:off x="275760" y="42732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CCEC-590B-4D4C-A912-9D2FAFD03C30}" type="slidenum">
              <a:t>3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New York State 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Information Literacy Standard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1800"/>
            </a:b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80" y="-24840"/>
            <a:ext cx="2690280" cy="2888640"/>
            <a:chOff x="6480" y="-24840"/>
            <a:chExt cx="2690280" cy="2888640"/>
          </a:xfrm>
        </p:grpSpPr>
        <p:sp>
          <p:nvSpPr>
            <p:cNvPr id="191" name=""/>
            <p:cNvSpPr/>
            <p:nvPr/>
          </p:nvSpPr>
          <p:spPr>
            <a:xfrm flipH="1" flipV="1">
              <a:off x="1324080" y="926280"/>
              <a:ext cx="696240" cy="193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480" y="-24840"/>
              <a:ext cx="2690280" cy="1991520"/>
              <a:chOff x="6480" y="-24840"/>
              <a:chExt cx="2690280" cy="1991520"/>
            </a:xfrm>
          </p:grpSpPr>
          <p:sp>
            <p:nvSpPr>
              <p:cNvPr id="193" name=""/>
              <p:cNvSpPr/>
              <p:nvPr/>
            </p:nvSpPr>
            <p:spPr>
              <a:xfrm rot="20413800">
                <a:off x="146880" y="34560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0413800">
                <a:off x="275760" y="42732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FB2B-6C81-4663-855A-B4F7C7FB6B1B}" type="slidenum">
              <a:t>4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Educational Technology -</a:t>
            </a:r>
            <a:br>
              <a:rPr sz="40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Education Law 814 </a:t>
            </a:r>
            <a:br>
              <a:rPr sz="36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21</a:t>
            </a:r>
            <a:r>
              <a:rPr b="1" lang="en-US" sz="3600" spc="-1" strike="noStrike" baseline="30000">
                <a:solidFill>
                  <a:srgbClr val="a69564"/>
                </a:solidFill>
                <a:latin typeface="Garamond"/>
              </a:rPr>
              <a:t>st</a:t>
            </a: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 Century Learners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Internet Safety Course of Study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&amp;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480" y="-24840"/>
            <a:ext cx="2690280" cy="2888640"/>
            <a:chOff x="6480" y="-24840"/>
            <a:chExt cx="2690280" cy="2888640"/>
          </a:xfrm>
        </p:grpSpPr>
        <p:sp>
          <p:nvSpPr>
            <p:cNvPr id="198" name=""/>
            <p:cNvSpPr/>
            <p:nvPr/>
          </p:nvSpPr>
          <p:spPr>
            <a:xfrm flipH="1" flipV="1">
              <a:off x="1324080" y="926280"/>
              <a:ext cx="696240" cy="193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6480" y="-24840"/>
              <a:ext cx="2690280" cy="1991520"/>
              <a:chOff x="6480" y="-24840"/>
              <a:chExt cx="2690280" cy="1991520"/>
            </a:xfrm>
          </p:grpSpPr>
          <p:sp>
            <p:nvSpPr>
              <p:cNvPr id="200" name=""/>
              <p:cNvSpPr/>
              <p:nvPr/>
            </p:nvSpPr>
            <p:spPr>
              <a:xfrm rot="20413800">
                <a:off x="146880" y="34560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20413800">
                <a:off x="275760" y="42732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1676520" y="48769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38560" y="48006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School Library Media Specialists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EDAA-F846-4CDB-869A-D60D8EDE5BEA}" type="slidenum">
              <a:t>5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9564"/>
                </a:solidFill>
                <a:latin typeface="Garamond"/>
              </a:rPr>
              <a:t>Educational Technology -</a:t>
            </a:r>
            <a:br>
              <a:rPr sz="4000"/>
            </a:br>
            <a:r>
              <a:rPr b="0" lang="en-US" sz="4000" spc="-1" strike="noStrike">
                <a:solidFill>
                  <a:srgbClr val="a69564"/>
                </a:solidFill>
                <a:latin typeface="Garamond"/>
              </a:rPr>
              <a:t>Internet Safety Course of Study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69480" y="-101160"/>
            <a:ext cx="2690640" cy="2889720"/>
            <a:chOff x="-69480" y="-101160"/>
            <a:chExt cx="2690640" cy="2889720"/>
          </a:xfrm>
        </p:grpSpPr>
        <p:sp>
          <p:nvSpPr>
            <p:cNvPr id="207" name=""/>
            <p:cNvSpPr/>
            <p:nvPr/>
          </p:nvSpPr>
          <p:spPr>
            <a:xfrm flipH="1" flipV="1">
              <a:off x="1248120" y="850680"/>
              <a:ext cx="696600" cy="1937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-69480" y="-101160"/>
              <a:ext cx="2690640" cy="1991880"/>
              <a:chOff x="-69480" y="-101160"/>
              <a:chExt cx="2690640" cy="1991880"/>
            </a:xfrm>
          </p:grpSpPr>
          <p:sp>
            <p:nvSpPr>
              <p:cNvPr id="209" name=""/>
              <p:cNvSpPr/>
              <p:nvPr/>
            </p:nvSpPr>
            <p:spPr>
              <a:xfrm rot="20413800">
                <a:off x="70920" y="2692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0413800">
                <a:off x="199800" y="35136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1676520" y="48769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2AEC-68A0-43DB-BB6D-7B343D949EAE}" type="slidenum">
              <a:t>6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Quality Collections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Instructional Materials Aid -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ufficient to meet the needs 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of the learning community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-229680" y="55440"/>
            <a:ext cx="2819520" cy="1738440"/>
            <a:chOff x="-229680" y="55440"/>
            <a:chExt cx="2819520" cy="1738440"/>
          </a:xfrm>
        </p:grpSpPr>
        <p:sp>
          <p:nvSpPr>
            <p:cNvPr id="215" name=""/>
            <p:cNvSpPr/>
            <p:nvPr/>
          </p:nvSpPr>
          <p:spPr>
            <a:xfrm>
              <a:off x="-229680" y="74880"/>
              <a:ext cx="1635120" cy="91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56400" y="55440"/>
              <a:ext cx="2233440" cy="1738440"/>
              <a:chOff x="356400" y="55440"/>
              <a:chExt cx="2233440" cy="1738440"/>
            </a:xfrm>
          </p:grpSpPr>
          <p:sp>
            <p:nvSpPr>
              <p:cNvPr id="217" name=""/>
              <p:cNvSpPr/>
              <p:nvPr/>
            </p:nvSpPr>
            <p:spPr>
              <a:xfrm rot="20118000">
                <a:off x="471960" y="428040"/>
                <a:ext cx="2001600" cy="9928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118000">
                <a:off x="579240" y="492840"/>
                <a:ext cx="1780200" cy="8607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br>
                  <a:rPr sz="2000"/>
                </a:b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1905120" y="198108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3716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Support the</a:t>
            </a:r>
            <a:br>
              <a:rPr sz="36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Needs of Students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B5D1-1FCA-4F8A-93DE-A46B24943077}" type="slidenum">
              <a:t>7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aterials Aid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ndation Formula-State Aid: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Adequate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ustainable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Fair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Commensurate with cost of education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Enables students to meet the standards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-229680" y="55440"/>
            <a:ext cx="2819520" cy="1738440"/>
            <a:chOff x="-229680" y="55440"/>
            <a:chExt cx="2819520" cy="1738440"/>
          </a:xfrm>
        </p:grpSpPr>
        <p:sp>
          <p:nvSpPr>
            <p:cNvPr id="224" name=""/>
            <p:cNvSpPr/>
            <p:nvPr/>
          </p:nvSpPr>
          <p:spPr>
            <a:xfrm>
              <a:off x="-229680" y="74880"/>
              <a:ext cx="1635120" cy="91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56400" y="55440"/>
              <a:ext cx="2233440" cy="1738440"/>
              <a:chOff x="356400" y="55440"/>
              <a:chExt cx="2233440" cy="1738440"/>
            </a:xfrm>
          </p:grpSpPr>
          <p:sp>
            <p:nvSpPr>
              <p:cNvPr id="226" name=""/>
              <p:cNvSpPr/>
              <p:nvPr/>
            </p:nvSpPr>
            <p:spPr>
              <a:xfrm rot="20118000">
                <a:off x="471960" y="428040"/>
                <a:ext cx="2001600" cy="9928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118000">
                <a:off x="579240" y="492840"/>
                <a:ext cx="1780200" cy="8607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br>
                  <a:rPr sz="2000"/>
                </a:b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C9ED-A2D7-49A2-9D6E-E451B71273B0}" type="slidenum">
              <a:t>8</a:t>
            </a:fld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aterials Aid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-229680" y="55440"/>
            <a:ext cx="2819520" cy="1738440"/>
            <a:chOff x="-229680" y="55440"/>
            <a:chExt cx="2819520" cy="1738440"/>
          </a:xfrm>
        </p:grpSpPr>
        <p:sp>
          <p:nvSpPr>
            <p:cNvPr id="231" name=""/>
            <p:cNvSpPr/>
            <p:nvPr/>
          </p:nvSpPr>
          <p:spPr>
            <a:xfrm>
              <a:off x="-229680" y="74880"/>
              <a:ext cx="1635120" cy="91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356400" y="55440"/>
              <a:ext cx="2233440" cy="1738440"/>
              <a:chOff x="356400" y="55440"/>
              <a:chExt cx="2233440" cy="1738440"/>
            </a:xfrm>
          </p:grpSpPr>
          <p:sp>
            <p:nvSpPr>
              <p:cNvPr id="233" name=""/>
              <p:cNvSpPr/>
              <p:nvPr/>
            </p:nvSpPr>
            <p:spPr>
              <a:xfrm rot="20118000">
                <a:off x="471960" y="428040"/>
                <a:ext cx="2001600" cy="9928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118000">
                <a:off x="579240" y="492840"/>
                <a:ext cx="1780200" cy="8607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br>
                  <a:rPr sz="2000"/>
                </a:b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5EF4-36FD-418F-AB66-0DB0B12BBBA4}" type="slidenum">
              <a:t>9</a:t>
            </a:fld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5-14T13:41:26Z</dcterms:modified>
  <cp:revision>114</cp:revision>
  <dc:subject/>
  <dc:title>Work Group Question here</dc:title>
</cp:coreProperties>
</file>